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A13-9826-4123-B51D-DECB5E23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1C2-118C-4D89-B0CD-E95F1D3B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6FDB-F773-4FBC-BD06-D71A2A14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3CA3-A275-4F03-9578-108314C1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85C-3408-4BBB-B69F-CEC682A1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72B-EC97-4968-B954-3EC2C1C3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296-C51F-438F-9075-15B69765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FDC-7D40-4473-B917-46648C54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EF9-ECBD-4B97-9990-6969BDED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8EF-90CE-42F8-BCE6-E36BC356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83C4-BAEA-4ADA-8297-0637E5BA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E5F-42D6-420F-A43A-FB385D90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EDA1-F022-4DA5-9B4D-437809E3E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429000"/>
            <a:ext cx="4572000" cy="3352680"/>
            <a:chOff x="0" y="3429000"/>
            <a:chExt cx="4572000" cy="3352680"/>
          </a:xfrm>
        </p:grpSpPr>
        <p:sp>
          <p:nvSpPr>
            <p:cNvPr id="42" name=""/>
            <p:cNvSpPr/>
            <p:nvPr/>
          </p:nvSpPr>
          <p:spPr>
            <a:xfrm>
              <a:off x="0" y="3429000"/>
              <a:ext cx="4572000" cy="335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98400" y="3754440"/>
              <a:ext cx="3598920" cy="2314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62040" y="6068880"/>
              <a:ext cx="7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62040" y="5735520"/>
              <a:ext cx="7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2040" y="541188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62040" y="507852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62040" y="474516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2040" y="441180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62040" y="408780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62040" y="375444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98400" y="6030720"/>
              <a:ext cx="18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001880" y="6030720"/>
              <a:ext cx="14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303200" y="6030720"/>
              <a:ext cx="18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1596960" y="6030720"/>
              <a:ext cx="18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1898640" y="6030720"/>
              <a:ext cx="14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200320" y="6030720"/>
              <a:ext cx="14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503440" y="6030720"/>
              <a:ext cx="18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795760" y="6030720"/>
              <a:ext cx="14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098880" y="6030720"/>
              <a:ext cx="14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400560" y="6030720"/>
              <a:ext cx="14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703680" y="6030720"/>
              <a:ext cx="14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995640" y="6030720"/>
              <a:ext cx="18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4297320" y="6030720"/>
              <a:ext cx="18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51040" y="4106520"/>
              <a:ext cx="3013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52360" y="4106880"/>
              <a:ext cx="2923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4680" y="4192560"/>
              <a:ext cx="30312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47800" y="4459320"/>
              <a:ext cx="301680" cy="67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4849560"/>
              <a:ext cx="30312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2352600" y="4001760"/>
              <a:ext cx="29232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644920" y="3954600"/>
              <a:ext cx="303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48040" y="3954600"/>
              <a:ext cx="301680" cy="10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249720" y="4583160"/>
              <a:ext cx="3016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51400" y="4583160"/>
              <a:ext cx="2934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44800" y="4735440"/>
              <a:ext cx="30168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12880" y="4373640"/>
              <a:ext cx="745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14560" y="406872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07960" y="4154400"/>
              <a:ext cx="7488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09640" y="44211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11320" y="509760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14440" y="4811760"/>
              <a:ext cx="7488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06760" y="39639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09880" y="3916440"/>
              <a:ext cx="745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11560" y="492588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14680" y="4545000"/>
              <a:ext cx="745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07000" y="46972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8320" y="47545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6840" y="5992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6840" y="5659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6840" y="533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6840" y="5002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6840" y="4668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6840" y="4335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6840" y="4011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6840" y="36781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1160" y="61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23560" y="61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16600" y="61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19000" y="61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20680" y="61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22720" y="61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15760" y="61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18160" y="61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20560" y="61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84800" y="6173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77120" y="6173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80240" y="6173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72240" y="6392880"/>
              <a:ext cx="65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me, d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79200" y="4834800"/>
              <a:ext cx="30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"/>
          <p:cNvGrpSpPr/>
          <p:nvPr/>
        </p:nvGrpSpPr>
        <p:grpSpPr>
          <a:xfrm>
            <a:off x="58680" y="58680"/>
            <a:ext cx="4442040" cy="3264120"/>
            <a:chOff x="58680" y="58680"/>
            <a:chExt cx="4442040" cy="3264120"/>
          </a:xfrm>
        </p:grpSpPr>
        <p:sp>
          <p:nvSpPr>
            <p:cNvPr id="1116" name=""/>
            <p:cNvSpPr/>
            <p:nvPr/>
          </p:nvSpPr>
          <p:spPr>
            <a:xfrm>
              <a:off x="58680" y="58680"/>
              <a:ext cx="4442040" cy="326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43040" y="295200"/>
              <a:ext cx="3546360" cy="25210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06320" y="28162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06320" y="25336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6320" y="22510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06320" y="19796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6320" y="16970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06320" y="14144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06320" y="113040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06320" y="86040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06320" y="57780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06320" y="29520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3040" y="1697040"/>
              <a:ext cx="354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743040" y="169668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977760" y="1025280"/>
              <a:ext cx="23652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214280" y="1025640"/>
              <a:ext cx="235080" cy="83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1449360" y="1472760"/>
              <a:ext cx="235080" cy="3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684440" y="1473120"/>
              <a:ext cx="236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920960" y="1473120"/>
              <a:ext cx="234720" cy="37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55680" y="1849320"/>
              <a:ext cx="23652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2392200" y="1803240"/>
              <a:ext cx="247680" cy="4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2639880" y="1531800"/>
              <a:ext cx="23508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2874960" y="1083960"/>
              <a:ext cx="23652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111480" y="1084320"/>
              <a:ext cx="23508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346560" y="1273320"/>
              <a:ext cx="23472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977760" y="743040"/>
              <a:ext cx="236520" cy="83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1214280" y="1531800"/>
              <a:ext cx="23508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449360" y="1531800"/>
              <a:ext cx="235080" cy="6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1684440" y="1638360"/>
              <a:ext cx="23652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1920960" y="1307880"/>
              <a:ext cx="23472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2155680" y="519120"/>
              <a:ext cx="236520" cy="78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392200" y="519120"/>
              <a:ext cx="247680" cy="10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639880" y="1531800"/>
              <a:ext cx="235080" cy="9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2874960" y="2144520"/>
              <a:ext cx="23652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3111480" y="1731600"/>
              <a:ext cx="235080" cy="41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3346560" y="1130040"/>
              <a:ext cx="234720" cy="60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77760" y="930240"/>
              <a:ext cx="236520" cy="3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214280" y="1308240"/>
              <a:ext cx="235080" cy="3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449360" y="1697040"/>
              <a:ext cx="23508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1684440" y="1555920"/>
              <a:ext cx="23652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920960" y="1555920"/>
              <a:ext cx="23472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2155680" y="1390680"/>
              <a:ext cx="23652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392200" y="1390680"/>
              <a:ext cx="24768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39880" y="1673280"/>
              <a:ext cx="23508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2874960" y="1614600"/>
              <a:ext cx="236520" cy="3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3111480" y="1508040"/>
              <a:ext cx="23508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3346560" y="1436760"/>
              <a:ext cx="23472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42840" y="1095480"/>
              <a:ext cx="71640" cy="7128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2" y="0"/>
                  </a:moveTo>
                  <a:lnTo>
                    <a:pt x="44" y="22"/>
                  </a:lnTo>
                  <a:lnTo>
                    <a:pt x="22" y="45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177920" y="98892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23" y="0"/>
                  </a:moveTo>
                  <a:lnTo>
                    <a:pt x="45" y="23"/>
                  </a:lnTo>
                  <a:lnTo>
                    <a:pt x="23" y="45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414440" y="1825560"/>
              <a:ext cx="71640" cy="7164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2" y="0"/>
                  </a:moveTo>
                  <a:lnTo>
                    <a:pt x="44" y="23"/>
                  </a:lnTo>
                  <a:lnTo>
                    <a:pt x="22" y="4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649520" y="143676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22" y="0"/>
                  </a:moveTo>
                  <a:lnTo>
                    <a:pt x="45" y="23"/>
                  </a:lnTo>
                  <a:lnTo>
                    <a:pt x="22" y="4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86040" y="1436760"/>
              <a:ext cx="71280" cy="7128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2" y="0"/>
                  </a:moveTo>
                  <a:lnTo>
                    <a:pt x="44" y="23"/>
                  </a:lnTo>
                  <a:lnTo>
                    <a:pt x="22" y="4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120760" y="1814400"/>
              <a:ext cx="71640" cy="716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22" y="0"/>
                  </a:moveTo>
                  <a:lnTo>
                    <a:pt x="45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357280" y="2214720"/>
              <a:ext cx="71640" cy="7128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2" y="0"/>
                  </a:moveTo>
                  <a:lnTo>
                    <a:pt x="44" y="23"/>
                  </a:lnTo>
                  <a:lnTo>
                    <a:pt x="22" y="4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603520" y="176688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23" y="0"/>
                  </a:moveTo>
                  <a:lnTo>
                    <a:pt x="45" y="23"/>
                  </a:lnTo>
                  <a:lnTo>
                    <a:pt x="23" y="45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840040" y="1496880"/>
              <a:ext cx="69840" cy="716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lnTo>
                    <a:pt x="44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075120" y="104940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23" y="0"/>
                  </a:moveTo>
                  <a:lnTo>
                    <a:pt x="45" y="22"/>
                  </a:lnTo>
                  <a:lnTo>
                    <a:pt x="23" y="4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311640" y="1236600"/>
              <a:ext cx="71280" cy="7164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2" y="0"/>
                  </a:moveTo>
                  <a:lnTo>
                    <a:pt x="44" y="23"/>
                  </a:lnTo>
                  <a:lnTo>
                    <a:pt x="22" y="4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546360" y="1720800"/>
              <a:ext cx="71640" cy="716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22" y="0"/>
                  </a:moveTo>
                  <a:lnTo>
                    <a:pt x="45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942840" y="706320"/>
              <a:ext cx="6984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177920" y="1542960"/>
              <a:ext cx="7128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414440" y="1496880"/>
              <a:ext cx="6984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649520" y="2168640"/>
              <a:ext cx="7128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86040" y="1601640"/>
              <a:ext cx="6984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120760" y="1273320"/>
              <a:ext cx="7164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357280" y="482760"/>
              <a:ext cx="698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603520" y="1496880"/>
              <a:ext cx="7128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40040" y="2438280"/>
              <a:ext cx="6984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075120" y="2108160"/>
              <a:ext cx="7128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311640" y="1697040"/>
              <a:ext cx="6984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46360" y="1095480"/>
              <a:ext cx="716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58280" y="2733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8280" y="24512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58280" y="21686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9920" y="18972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77440" y="161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77440" y="1332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06160" y="1049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06160" y="777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06160" y="495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06160" y="212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310120" y="2968560"/>
              <a:ext cx="38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n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16200000">
              <a:off x="92160" y="149364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8680" y="58680"/>
              <a:ext cx="4442040" cy="3264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11360" y="28177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1925640" y="2822400"/>
              <a:ext cx="1440" cy="3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3116160" y="2822400"/>
              <a:ext cx="1800" cy="3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11000" y="2876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890360" y="2876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044520" y="2876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22440" y="2876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573360" y="89208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og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59320" y="1778040"/>
              <a:ext cx="77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odafo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616200" y="137304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rtfol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739800" y="28191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 flipV="1">
              <a:off x="4287960" y="28173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2" name=""/>
          <p:cNvGrpSpPr/>
          <p:nvPr/>
        </p:nvGrpSpPr>
        <p:grpSpPr>
          <a:xfrm>
            <a:off x="4632480" y="3489480"/>
            <a:ext cx="4438440" cy="3341520"/>
            <a:chOff x="4632480" y="3489480"/>
            <a:chExt cx="4438440" cy="3341520"/>
          </a:xfrm>
        </p:grpSpPr>
        <p:sp>
          <p:nvSpPr>
            <p:cNvPr id="1213" name=""/>
            <p:cNvSpPr/>
            <p:nvPr/>
          </p:nvSpPr>
          <p:spPr>
            <a:xfrm>
              <a:off x="4632480" y="3489480"/>
              <a:ext cx="4438440" cy="334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64080" y="3730680"/>
              <a:ext cx="3378240" cy="2376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429160" y="610704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429160" y="570852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429160" y="531036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429160" y="49244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429160" y="45277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429160" y="41292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429160" y="37306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5464080" y="610704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6140520" y="610704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6815160" y="610704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7491240" y="610704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8166240" y="610704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8842320" y="610704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64080" y="4079880"/>
              <a:ext cx="3384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802480" y="4152960"/>
              <a:ext cx="33804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40520" y="4213080"/>
              <a:ext cx="3380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478560" y="4286160"/>
              <a:ext cx="33660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815160" y="4357800"/>
              <a:ext cx="3380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153200" y="4430880"/>
              <a:ext cx="33804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491240" y="4491000"/>
              <a:ext cx="33840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29640" y="4562640"/>
              <a:ext cx="33660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166240" y="4635360"/>
              <a:ext cx="3380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504280" y="4708440"/>
              <a:ext cx="3380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464080" y="4079880"/>
              <a:ext cx="33840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802480" y="4417920"/>
              <a:ext cx="33804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40520" y="4743360"/>
              <a:ext cx="338040" cy="33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478560" y="5081760"/>
              <a:ext cx="33660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815160" y="5419800"/>
              <a:ext cx="33804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153200" y="5757840"/>
              <a:ext cx="33804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7491240" y="5781240"/>
              <a:ext cx="33840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7829640" y="5443200"/>
              <a:ext cx="33660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8166240" y="5118120"/>
              <a:ext cx="33804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8504280" y="4779720"/>
              <a:ext cx="33804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464080" y="4079880"/>
              <a:ext cx="33840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802480" y="4273560"/>
              <a:ext cx="3380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140520" y="4467240"/>
              <a:ext cx="33804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478560" y="4635360"/>
              <a:ext cx="3366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815160" y="4780080"/>
              <a:ext cx="33804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153200" y="4889520"/>
              <a:ext cx="3380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491240" y="4973760"/>
              <a:ext cx="3384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7829640" y="4973760"/>
              <a:ext cx="3366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8166240" y="4889520"/>
              <a:ext cx="3380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8504280" y="4780080"/>
              <a:ext cx="33804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464080" y="4079880"/>
              <a:ext cx="33840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802480" y="4334040"/>
              <a:ext cx="33804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140520" y="4575240"/>
              <a:ext cx="3380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478560" y="4803840"/>
              <a:ext cx="33660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815160" y="4997520"/>
              <a:ext cx="33804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53200" y="5154480"/>
              <a:ext cx="3380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7491240" y="5225760"/>
              <a:ext cx="3384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7829640" y="5141880"/>
              <a:ext cx="3366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8166240" y="4973400"/>
              <a:ext cx="33804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8504280" y="4780080"/>
              <a:ext cx="3380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440320" y="4056120"/>
              <a:ext cx="49320" cy="49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78360" y="4309920"/>
              <a:ext cx="47880" cy="47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16760" y="4551480"/>
              <a:ext cx="47520" cy="47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453360" y="4780080"/>
              <a:ext cx="48960" cy="48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791400" y="4973760"/>
              <a:ext cx="48960" cy="47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129440" y="5130720"/>
              <a:ext cx="47520" cy="47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467480" y="5214960"/>
              <a:ext cx="47880" cy="47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805880" y="5202360"/>
              <a:ext cx="47520" cy="47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142120" y="5118120"/>
              <a:ext cx="49320" cy="47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480520" y="4950000"/>
              <a:ext cx="47520" cy="47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818560" y="4756320"/>
              <a:ext cx="47520" cy="47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295600" y="6022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295600" y="5624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295600" y="522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295600" y="4840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295600" y="4441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222520" y="4044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222520" y="3646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428800" y="62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055560" y="6215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730200" y="6215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06640" y="6215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8081280" y="6215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8805600" y="62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97480" y="6469200"/>
              <a:ext cx="1572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portion of Google he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rot="16200000">
              <a:off x="3928680" y="4896720"/>
              <a:ext cx="189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sk of portfolio of Google an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rot="16200000">
              <a:off x="4770720" y="4861080"/>
              <a:ext cx="57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Voda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10280" y="45720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ρ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010280" y="54100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ρ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010280" y="41148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ρ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8" name=""/>
          <p:cNvGrpSpPr/>
          <p:nvPr/>
        </p:nvGrpSpPr>
        <p:grpSpPr>
          <a:xfrm>
            <a:off x="4637160" y="3489480"/>
            <a:ext cx="4427640" cy="3324240"/>
            <a:chOff x="4637160" y="3489480"/>
            <a:chExt cx="4427640" cy="3324240"/>
          </a:xfrm>
        </p:grpSpPr>
        <p:sp>
          <p:nvSpPr>
            <p:cNvPr id="1299" name=""/>
            <p:cNvSpPr/>
            <p:nvPr/>
          </p:nvSpPr>
          <p:spPr>
            <a:xfrm>
              <a:off x="4637160" y="3489480"/>
              <a:ext cx="4427640" cy="332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268960" y="3736800"/>
              <a:ext cx="3558960" cy="2346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229360" y="608328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229360" y="5783400"/>
              <a:ext cx="396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229360" y="550080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229360" y="5200560"/>
              <a:ext cx="39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229360" y="491652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229360" y="461808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229360" y="43196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229360" y="403380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229360" y="373680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5268960" y="608328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5859360" y="608328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6450120" y="608328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7054920" y="608328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7647120" y="608328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8237520" y="608328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8827920" y="608328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386320" y="4087800"/>
              <a:ext cx="119160" cy="477720"/>
            </a:xfrm>
            <a:custGeom>
              <a:avLst/>
              <a:gdLst/>
              <a:ahLst/>
              <a:rect l="l" t="t" r="r" b="b"/>
              <a:pathLst>
                <a:path w="75" h="280">
                  <a:moveTo>
                    <a:pt x="0" y="0"/>
                  </a:moveTo>
                  <a:lnTo>
                    <a:pt x="17" y="75"/>
                  </a:lnTo>
                  <a:lnTo>
                    <a:pt x="33" y="151"/>
                  </a:lnTo>
                  <a:lnTo>
                    <a:pt x="58" y="220"/>
                  </a:lnTo>
                  <a:lnTo>
                    <a:pt x="75" y="2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505480" y="4565520"/>
              <a:ext cx="117360" cy="195480"/>
            </a:xfrm>
            <a:custGeom>
              <a:avLst/>
              <a:gdLst/>
              <a:ahLst/>
              <a:rect l="l" t="t" r="r" b="b"/>
              <a:pathLst>
                <a:path w="74" h="114">
                  <a:moveTo>
                    <a:pt x="0" y="0"/>
                  </a:moveTo>
                  <a:lnTo>
                    <a:pt x="16" y="38"/>
                  </a:lnTo>
                  <a:lnTo>
                    <a:pt x="33" y="69"/>
                  </a:lnTo>
                  <a:lnTo>
                    <a:pt x="58" y="91"/>
                  </a:lnTo>
                  <a:lnTo>
                    <a:pt x="74" y="1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622840" y="4761000"/>
              <a:ext cx="119160" cy="11592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0" y="0"/>
                  </a:moveTo>
                  <a:lnTo>
                    <a:pt x="33" y="38"/>
                  </a:lnTo>
                  <a:lnTo>
                    <a:pt x="75" y="6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42000" y="4876920"/>
              <a:ext cx="117360" cy="6480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0" y="0"/>
                  </a:moveTo>
                  <a:lnTo>
                    <a:pt x="33" y="23"/>
                  </a:lnTo>
                  <a:lnTo>
                    <a:pt x="74" y="3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859360" y="4941720"/>
              <a:ext cx="11916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978520" y="4994280"/>
              <a:ext cx="1173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095880" y="5032440"/>
              <a:ext cx="117720" cy="39600"/>
            </a:xfrm>
            <a:custGeom>
              <a:avLst/>
              <a:gdLst/>
              <a:ahLst/>
              <a:rect l="l" t="t" r="r" b="b"/>
              <a:pathLst>
                <a:path w="74" h="23">
                  <a:moveTo>
                    <a:pt x="0" y="0"/>
                  </a:moveTo>
                  <a:lnTo>
                    <a:pt x="33" y="16"/>
                  </a:lnTo>
                  <a:lnTo>
                    <a:pt x="74" y="2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213600" y="5072040"/>
              <a:ext cx="118800" cy="12600"/>
            </a:xfrm>
            <a:custGeom>
              <a:avLst/>
              <a:gdLst/>
              <a:ahLst/>
              <a:rect l="l" t="t" r="r" b="b"/>
              <a:pathLst>
                <a:path w="75" h="8">
                  <a:moveTo>
                    <a:pt x="0" y="0"/>
                  </a:moveTo>
                  <a:lnTo>
                    <a:pt x="34" y="8"/>
                  </a:lnTo>
                  <a:lnTo>
                    <a:pt x="75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32400" y="5084640"/>
              <a:ext cx="11772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450120" y="5110200"/>
              <a:ext cx="118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568920" y="5124600"/>
              <a:ext cx="1177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86640" y="5137200"/>
              <a:ext cx="118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805440" y="5149800"/>
              <a:ext cx="1177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923160" y="5162400"/>
              <a:ext cx="131760" cy="12960"/>
            </a:xfrm>
            <a:custGeom>
              <a:avLst/>
              <a:gdLst/>
              <a:ahLst/>
              <a:rect l="l" t="t" r="r" b="b"/>
              <a:pathLst>
                <a:path w="83" h="8">
                  <a:moveTo>
                    <a:pt x="0" y="0"/>
                  </a:moveTo>
                  <a:lnTo>
                    <a:pt x="42" y="8"/>
                  </a:lnTo>
                  <a:lnTo>
                    <a:pt x="83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054920" y="5175360"/>
              <a:ext cx="119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74080" y="5175360"/>
              <a:ext cx="117360" cy="1260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0" y="0"/>
                  </a:moveTo>
                  <a:lnTo>
                    <a:pt x="33" y="0"/>
                  </a:lnTo>
                  <a:lnTo>
                    <a:pt x="74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91440" y="5187960"/>
              <a:ext cx="119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10600" y="5187960"/>
              <a:ext cx="117360" cy="12600"/>
            </a:xfrm>
            <a:custGeom>
              <a:avLst/>
              <a:gdLst/>
              <a:ahLst/>
              <a:rect l="l" t="t" r="r" b="b"/>
              <a:pathLst>
                <a:path w="74" h="8">
                  <a:moveTo>
                    <a:pt x="0" y="0"/>
                  </a:moveTo>
                  <a:lnTo>
                    <a:pt x="33" y="0"/>
                  </a:lnTo>
                  <a:lnTo>
                    <a:pt x="74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527960" y="5200560"/>
              <a:ext cx="1191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47120" y="5200560"/>
              <a:ext cx="1173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764480" y="5200560"/>
              <a:ext cx="119160" cy="14400"/>
            </a:xfrm>
            <a:custGeom>
              <a:avLst/>
              <a:gdLst/>
              <a:ahLst/>
              <a:rect l="l" t="t" r="r" b="b"/>
              <a:pathLst>
                <a:path w="75" h="8">
                  <a:moveTo>
                    <a:pt x="0" y="0"/>
                  </a:moveTo>
                  <a:lnTo>
                    <a:pt x="33" y="0"/>
                  </a:lnTo>
                  <a:lnTo>
                    <a:pt x="75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883640" y="5214960"/>
              <a:ext cx="117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001000" y="5214960"/>
              <a:ext cx="117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118360" y="5214960"/>
              <a:ext cx="119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237520" y="5214960"/>
              <a:ext cx="117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84280" y="5992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084280" y="5692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084280" y="540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084280" y="5110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084280" y="4826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084280" y="452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084280" y="42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084280" y="3943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084280" y="3646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22900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81940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72000" y="6199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975000" y="6199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67200" y="6199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157960" y="6199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49800" y="6199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389560" y="6472080"/>
              <a:ext cx="329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N - number of stocks of equal proportion in a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ortfoli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16200000">
              <a:off x="4477680" y="4844160"/>
              <a:ext cx="82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rtfolio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Ri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637160" y="3489480"/>
              <a:ext cx="4427640" cy="3324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257800" y="5257800"/>
              <a:ext cx="3581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772400" y="464832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verage covariance in mar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095880" y="525780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24480" y="5410080"/>
              <a:ext cx="137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ket Risk, Undiversifable Ri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5" name=""/>
          <p:cNvGrpSpPr/>
          <p:nvPr/>
        </p:nvGrpSpPr>
        <p:grpSpPr>
          <a:xfrm>
            <a:off x="0" y="3429000"/>
            <a:ext cx="4457880" cy="3429000"/>
            <a:chOff x="0" y="3429000"/>
            <a:chExt cx="4457880" cy="3429000"/>
          </a:xfrm>
        </p:grpSpPr>
        <p:sp>
          <p:nvSpPr>
            <p:cNvPr id="1366" name=""/>
            <p:cNvSpPr/>
            <p:nvPr/>
          </p:nvSpPr>
          <p:spPr>
            <a:xfrm>
              <a:off x="0" y="3429000"/>
              <a:ext cx="4457880" cy="342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234880" y="65278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84280" y="3649680"/>
              <a:ext cx="3622680" cy="25621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2880" y="621180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2880" y="569736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2880" y="518328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2880" y="467820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2880" y="41641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2880" y="364968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584280" y="62114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1168560" y="62114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1743120" y="62114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2327400" y="62114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>
              <a:off x="2901960" y="62114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3486240" y="62114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4060800" y="62114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1158840" y="5514840"/>
              <a:ext cx="30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>
              <a:off x="1189080" y="5343480"/>
              <a:ext cx="842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1273320" y="5169960"/>
              <a:ext cx="11412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1387440" y="5011200"/>
              <a:ext cx="13644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1523880" y="4840200"/>
              <a:ext cx="14616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V="1">
              <a:off x="1670040" y="4678200"/>
              <a:ext cx="15732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1827360" y="4508280"/>
              <a:ext cx="16668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1994040" y="4346640"/>
              <a:ext cx="16668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2160720" y="4175280"/>
              <a:ext cx="16668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2327400" y="4003200"/>
              <a:ext cx="166680" cy="1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3267000" y="4829040"/>
              <a:ext cx="29232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2974680" y="4915080"/>
              <a:ext cx="2919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2682720" y="5000760"/>
              <a:ext cx="2923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2400480" y="5086440"/>
              <a:ext cx="28224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2118960" y="5170320"/>
              <a:ext cx="28116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1847880" y="5257800"/>
              <a:ext cx="27144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1585800" y="5343480"/>
              <a:ext cx="2620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1366920" y="5429160"/>
              <a:ext cx="21888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1199880" y="5504040"/>
              <a:ext cx="1666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1158480" y="5589720"/>
              <a:ext cx="414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 flipV="1">
              <a:off x="3319560" y="4754160"/>
              <a:ext cx="2397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 flipV="1">
              <a:off x="3110040" y="4667400"/>
              <a:ext cx="20952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flipV="1">
              <a:off x="2901960" y="4583160"/>
              <a:ext cx="208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 flipV="1">
              <a:off x="2734920" y="4508280"/>
              <a:ext cx="16668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 flipV="1">
              <a:off x="2589120" y="4420800"/>
              <a:ext cx="14616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 flipV="1">
              <a:off x="2473200" y="4336920"/>
              <a:ext cx="11592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 flipV="1">
              <a:off x="2411280" y="4260600"/>
              <a:ext cx="619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2390400" y="4175280"/>
              <a:ext cx="205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2390760" y="4088880"/>
              <a:ext cx="30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2421000" y="4003560"/>
              <a:ext cx="730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506760" y="4775040"/>
              <a:ext cx="104760" cy="108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443320" y="3949560"/>
              <a:ext cx="102960" cy="108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106640" y="5622840"/>
              <a:ext cx="104760" cy="10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600280" y="391788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im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424680" y="5016600"/>
              <a:ext cx="64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odapho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262520" y="558972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io Ti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06080" y="612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06080" y="5611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06080" y="509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6080" y="459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06080" y="4078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6080" y="3564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52240" y="6329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137960" y="6329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11080" y="6329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295000" y="6329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869920" y="6329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412800" y="6329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987360" y="6329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rot="16200000">
              <a:off x="46080" y="486396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0" y="3429000"/>
              <a:ext cx="4457880" cy="342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3" name=""/>
          <p:cNvGrpSpPr/>
          <p:nvPr/>
        </p:nvGrpSpPr>
        <p:grpSpPr>
          <a:xfrm>
            <a:off x="0" y="2004840"/>
            <a:ext cx="7367040" cy="4853160"/>
            <a:chOff x="0" y="2004840"/>
            <a:chExt cx="7367040" cy="4853160"/>
          </a:xfrm>
        </p:grpSpPr>
        <p:sp>
          <p:nvSpPr>
            <p:cNvPr id="1434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8320" y="3664080"/>
              <a:ext cx="3716640" cy="2668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311200" y="651816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rot="16200000">
              <a:off x="115920" y="493848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rot="20149200">
              <a:off x="869400" y="3256560"/>
              <a:ext cx="6454800" cy="159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8" y="9893"/>
                  </a:moveTo>
                  <a:arcTo wR="10800" hR="10800" stAng="-10510970" swAng="3688666"/>
                  <a:lnTo>
                    <a:pt x="10800" y="10800"/>
                  </a:lnTo>
                  <a:close/>
                </a:path>
                <a:path fill="none" w="21600" h="21600">
                  <a:moveTo>
                    <a:pt x="38" y="9893"/>
                  </a:moveTo>
                  <a:arcTo wR="10800" hR="10800" stAng="-10510970" swAng="3688666"/>
                </a:path>
              </a:pathLst>
            </a:custGeom>
            <a:noFill/>
            <a:ln cap="rnd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81200" y="3990960"/>
              <a:ext cx="132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ficient Fronti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 rot="21360000">
              <a:off x="1132200" y="4560840"/>
              <a:ext cx="3908520" cy="130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293" y="2170"/>
                  </a:moveTo>
                  <a:arcTo wR="10800" hR="10800" stAng="-3182711" swAng="3337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293" y="2170"/>
                  </a:moveTo>
                  <a:arcTo wR="10800" hR="10800" stAng="-3182711" swAng="3337913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922400" y="5829480"/>
              <a:ext cx="80172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2404080" y="3861000"/>
              <a:ext cx="668880" cy="23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12" y="429"/>
                  </a:moveTo>
                  <a:arcTo wR="10800" hR="10800" stAng="-4428316" swAng="37788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12" y="429"/>
                  </a:moveTo>
                  <a:arcTo wR="10800" hR="10800" stAng="-4428316" swAng="3778845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 flipV="1">
              <a:off x="2399040" y="4203360"/>
              <a:ext cx="561600" cy="175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83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8386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2394000" y="4734000"/>
              <a:ext cx="17280" cy="46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51120" y="4471920"/>
              <a:ext cx="132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ttainable Reg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2306520" y="4734000"/>
              <a:ext cx="89712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057400" y="456408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214720" y="472752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965240" y="4813200"/>
              <a:ext cx="5076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916280" y="494172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76520" y="488484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306520" y="427824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517840" y="3978360"/>
              <a:ext cx="4932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062080" y="437508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301840" y="4548240"/>
              <a:ext cx="5076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852560" y="4619520"/>
              <a:ext cx="5076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93720" y="505296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716120" y="473400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471680" y="489096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828800" y="485928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98600" y="514512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422360" y="530856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662120" y="535464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784520" y="518148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770120" y="502776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925640" y="519120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082960" y="535464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238480" y="5516640"/>
              <a:ext cx="5076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946160" y="5084640"/>
              <a:ext cx="4932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828800" y="506880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692360" y="5129280"/>
              <a:ext cx="4896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847880" y="529272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847880" y="538488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160720" y="561960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70120" y="547704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004840" y="5456160"/>
              <a:ext cx="4932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316240" y="5781600"/>
              <a:ext cx="5076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623960" y="5170320"/>
              <a:ext cx="4932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779480" y="533412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935000" y="5497560"/>
              <a:ext cx="5112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969920" y="5364000"/>
              <a:ext cx="5112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481040" y="500220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208160" y="522144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565280" y="5308560"/>
              <a:ext cx="4932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141640" y="496728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438280" y="584820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833480" y="5562720"/>
              <a:ext cx="5076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662120" y="524664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544760" y="5562720"/>
              <a:ext cx="5076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1" name=""/>
          <p:cNvGrpSpPr/>
          <p:nvPr/>
        </p:nvGrpSpPr>
        <p:grpSpPr>
          <a:xfrm>
            <a:off x="-25560" y="2081520"/>
            <a:ext cx="7787520" cy="4776480"/>
            <a:chOff x="-25560" y="2081520"/>
            <a:chExt cx="7787520" cy="4776480"/>
          </a:xfrm>
        </p:grpSpPr>
        <p:sp>
          <p:nvSpPr>
            <p:cNvPr id="1492" name=""/>
            <p:cNvSpPr/>
            <p:nvPr/>
          </p:nvSpPr>
          <p:spPr>
            <a:xfrm>
              <a:off x="-25560" y="3429000"/>
              <a:ext cx="4457880" cy="342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20560" y="3683160"/>
              <a:ext cx="3622680" cy="2668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17680" y="633240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558720" y="63324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228400" y="662292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rot="16200000">
              <a:off x="20880" y="494028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-25560" y="3429000"/>
              <a:ext cx="4457880" cy="342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rot="20149200">
              <a:off x="1416960" y="3300840"/>
              <a:ext cx="6295680" cy="158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8" y="9893"/>
                  </a:moveTo>
                  <a:arcTo wR="10800" hR="10800" stAng="-10510970" swAng="37906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8" y="9893"/>
                  </a:moveTo>
                  <a:arcTo wR="10800" hR="10800" stAng="-10510970" swAng="3790612"/>
                </a:path>
              </a:pathLst>
            </a:custGeom>
            <a:noFill/>
            <a:ln cap="rnd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 flipV="1" rot="21360000">
              <a:off x="1677960" y="4573800"/>
              <a:ext cx="3809880" cy="130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293" y="2170"/>
                  </a:moveTo>
                  <a:arcTo wR="10800" hR="10800" stAng="-3182711" swAng="3337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293" y="2170"/>
                  </a:moveTo>
                  <a:arcTo wR="10800" hR="10800" stAng="-3182711" swAng="3337913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459160" y="5829480"/>
              <a:ext cx="7808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2927160" y="3861000"/>
              <a:ext cx="652680" cy="23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12" y="429"/>
                  </a:moveTo>
                  <a:arcTo wR="10800" hR="10800" stAng="-4428316" swAng="37788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12" y="429"/>
                  </a:moveTo>
                  <a:arcTo wR="10800" hR="10800" stAng="-4428316" swAng="3778845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 flipV="1">
              <a:off x="2922840" y="4203360"/>
              <a:ext cx="548640" cy="175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83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8386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2917440" y="4734000"/>
              <a:ext cx="17640" cy="46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590920" y="4564080"/>
              <a:ext cx="4896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743200" y="472752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500200" y="4813200"/>
              <a:ext cx="49320" cy="5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452680" y="494172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219400" y="4884840"/>
              <a:ext cx="4896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833560" y="427824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038400" y="3978360"/>
              <a:ext cx="4932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595600" y="437508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828880" y="4548240"/>
              <a:ext cx="49320" cy="5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390760" y="4619520"/>
              <a:ext cx="49320" cy="5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38400" y="505296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57560" y="4734000"/>
              <a:ext cx="4896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019240" y="489096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67000" y="485928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947960" y="5145120"/>
              <a:ext cx="4896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71720" y="530856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205000" y="535464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324160" y="518148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309760" y="5027760"/>
              <a:ext cx="4932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462040" y="5191200"/>
              <a:ext cx="4932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614680" y="535464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766960" y="5516640"/>
              <a:ext cx="49320" cy="5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481120" y="508464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367000" y="506880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233440" y="5129280"/>
              <a:ext cx="49320" cy="5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86080" y="529272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386080" y="5384880"/>
              <a:ext cx="4932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690640" y="561960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309760" y="5477040"/>
              <a:ext cx="4932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538360" y="545616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843280" y="5781600"/>
              <a:ext cx="49320" cy="5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166840" y="517032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319480" y="5334120"/>
              <a:ext cx="4896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471760" y="5497560"/>
              <a:ext cx="4932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505240" y="5364000"/>
              <a:ext cx="4896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028960" y="5002200"/>
              <a:ext cx="4896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762200" y="5221440"/>
              <a:ext cx="4896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109960" y="5308560"/>
              <a:ext cx="4896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671920" y="4967280"/>
              <a:ext cx="4896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962440" y="5848200"/>
              <a:ext cx="4896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371680" y="5562720"/>
              <a:ext cx="49320" cy="5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205000" y="524664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090880" y="5562720"/>
              <a:ext cx="48960" cy="5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565200" y="3755880"/>
              <a:ext cx="2705040" cy="205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36400" y="5365800"/>
              <a:ext cx="447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313000" y="4402080"/>
              <a:ext cx="104760" cy="11592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2" y="0"/>
                  </a:moveTo>
                  <a:lnTo>
                    <a:pt x="44" y="22"/>
                  </a:lnTo>
                  <a:lnTo>
                    <a:pt x="22" y="45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041560" y="4265640"/>
              <a:ext cx="4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2" name=""/>
          <p:cNvGrpSpPr/>
          <p:nvPr/>
        </p:nvGrpSpPr>
        <p:grpSpPr>
          <a:xfrm>
            <a:off x="4572000" y="3489480"/>
            <a:ext cx="4506840" cy="3308040"/>
            <a:chOff x="4572000" y="3489480"/>
            <a:chExt cx="4506840" cy="3308040"/>
          </a:xfrm>
        </p:grpSpPr>
        <p:sp>
          <p:nvSpPr>
            <p:cNvPr id="1553" name=""/>
            <p:cNvSpPr/>
            <p:nvPr/>
          </p:nvSpPr>
          <p:spPr>
            <a:xfrm>
              <a:off x="4572000" y="3489480"/>
              <a:ext cx="4506840" cy="330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310360" y="3735360"/>
              <a:ext cx="3546360" cy="2390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264280" y="6126120"/>
              <a:ext cx="46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264280" y="583092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264280" y="5526000"/>
              <a:ext cx="46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264280" y="523080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264280" y="493560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264280" y="462924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264280" y="433548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264280" y="402912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264280" y="373536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310360" y="5230800"/>
              <a:ext cx="354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V="1">
              <a:off x="5310360" y="5230800"/>
              <a:ext cx="144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6024600" y="612468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6726240" y="612468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7440480" y="612468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8142120" y="612468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V="1">
              <a:off x="8856720" y="612468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8105760" y="4121280"/>
              <a:ext cx="71280" cy="6660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1" y="0"/>
                  </a:moveTo>
                  <a:lnTo>
                    <a:pt x="42" y="22"/>
                  </a:lnTo>
                  <a:lnTo>
                    <a:pt x="21" y="45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626080" y="5797440"/>
              <a:ext cx="69840" cy="684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1" y="0"/>
                  </a:moveTo>
                  <a:lnTo>
                    <a:pt x="41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686720" y="4233960"/>
              <a:ext cx="69840" cy="6804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20" y="0"/>
                  </a:moveTo>
                  <a:lnTo>
                    <a:pt x="41" y="22"/>
                  </a:lnTo>
                  <a:lnTo>
                    <a:pt x="20" y="45"/>
                  </a:lnTo>
                  <a:lnTo>
                    <a:pt x="0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689880" y="4902120"/>
              <a:ext cx="71280" cy="6840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1" y="0"/>
                  </a:moveTo>
                  <a:lnTo>
                    <a:pt x="42" y="22"/>
                  </a:lnTo>
                  <a:lnTo>
                    <a:pt x="21" y="45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475400" y="4481640"/>
              <a:ext cx="69840" cy="69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0" y="0"/>
                  </a:moveTo>
                  <a:lnTo>
                    <a:pt x="41" y="23"/>
                  </a:lnTo>
                  <a:lnTo>
                    <a:pt x="20" y="46"/>
                  </a:lnTo>
                  <a:lnTo>
                    <a:pt x="0" y="2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5661000" y="4063680"/>
              <a:ext cx="2481120" cy="170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92680" y="3973680"/>
              <a:ext cx="100836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GB" sz="10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= 1.62R</a:t>
              </a:r>
              <a:r>
                <a:rPr b="0" lang="en-GB" sz="1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- 4.8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981320" y="60357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981320" y="57420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065560" y="54356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109840" y="5140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109840" y="484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028840" y="453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8840" y="4245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028840" y="3938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028840" y="3643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250960" y="62499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987520" y="6249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689520" y="6249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357680" y="6249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061120" y="6249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773920" y="6249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487560" y="6427800"/>
              <a:ext cx="103068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ket return, R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rot="16200000">
              <a:off x="4337280" y="4964040"/>
              <a:ext cx="96984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Asset Return, R</a:t>
              </a:r>
              <a:r>
                <a:rPr b="1" lang="en-GB" sz="10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572000" y="3489480"/>
              <a:ext cx="4506840" cy="3308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829560" y="4981680"/>
              <a:ext cx="55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7380360" y="45864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512120" y="4791240"/>
              <a:ext cx="9205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β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1.6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"/>
          <p:cNvGrpSpPr/>
          <p:nvPr/>
        </p:nvGrpSpPr>
        <p:grpSpPr>
          <a:xfrm>
            <a:off x="0" y="3425760"/>
            <a:ext cx="4572000" cy="3432240"/>
            <a:chOff x="0" y="3425760"/>
            <a:chExt cx="4572000" cy="3432240"/>
          </a:xfrm>
        </p:grpSpPr>
        <p:sp>
          <p:nvSpPr>
            <p:cNvPr id="1600" name=""/>
            <p:cNvSpPr/>
            <p:nvPr/>
          </p:nvSpPr>
          <p:spPr>
            <a:xfrm>
              <a:off x="0" y="3425760"/>
              <a:ext cx="4572000" cy="343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89120" y="3683160"/>
              <a:ext cx="3554280" cy="2609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49160" y="629748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49160" y="596916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49160" y="564372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49160" y="53182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49160" y="49928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49160" y="466560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49160" y="434016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49160" y="40132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49160" y="36878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785880" y="629748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1679400" y="629748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2562120" y="629748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3456000" y="629748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4340160" y="629748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814400" y="514836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851120" y="4782960"/>
              <a:ext cx="42840" cy="432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889280" y="49258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925640" y="520056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962000" y="49928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998720" y="50562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023920" y="46260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060640" y="45734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095560" y="46656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133720" y="45100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170080" y="5003640"/>
              <a:ext cx="42840" cy="432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206800" y="487512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244600" y="45626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281320" y="48988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317680" y="49258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352600" y="50180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379600" y="471816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416320" y="49514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451240" y="47052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489040" y="4782960"/>
              <a:ext cx="43200" cy="432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525760" y="49132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562120" y="45356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598840" y="46656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37000" y="44308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73360" y="45100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708280" y="46260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735280" y="479736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771640" y="473076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806560" y="41958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843280" y="4678200"/>
              <a:ext cx="42840" cy="432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881440" y="45100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917800" y="474516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954160" y="4692600"/>
              <a:ext cx="4320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92320" y="46260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029040" y="42480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065400" y="44956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089160" y="41576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127320" y="45482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164040" y="46004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198960" y="41432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236760" y="41306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273480" y="40798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309840" y="44578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348000" y="45356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384720" y="42102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421080" y="44686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444840" y="41702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483000" y="41180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785880" y="4111200"/>
              <a:ext cx="3025800" cy="1390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90320" y="6203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90320" y="58784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0320" y="55530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0320" y="5227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90320" y="4898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6880" y="45734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16880" y="42480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6880" y="39225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6880" y="35971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48800" y="6413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593000" y="6413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525400" y="6413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371040" y="6413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301640" y="6413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415960" y="660888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rot="16200000">
              <a:off x="41400" y="495288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502000" y="46004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124000" y="383688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330280" y="4137120"/>
              <a:ext cx="14940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514520" y="5423040"/>
              <a:ext cx="579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907920" y="554688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3429000"/>
            <a:ext cx="4572000" cy="3429000"/>
            <a:chOff x="0" y="3429000"/>
            <a:chExt cx="4572000" cy="3429000"/>
          </a:xfrm>
        </p:grpSpPr>
        <p:sp>
          <p:nvSpPr>
            <p:cNvPr id="111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7080" y="3676680"/>
              <a:ext cx="3562560" cy="243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2160" y="61149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2160" y="57690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2160" y="54230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2160" y="50752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160" y="47163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2160" y="43704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2160" y="402264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2160" y="36766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57080" y="6114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59876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45268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29580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151160" y="6114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757080" y="4047840"/>
              <a:ext cx="1296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0040" y="4048200"/>
              <a:ext cx="2376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793800" y="4208040"/>
              <a:ext cx="1116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4960" y="4208400"/>
              <a:ext cx="252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30160" y="4246200"/>
              <a:ext cx="111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1320" y="4246560"/>
              <a:ext cx="12600" cy="5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3920" y="4791240"/>
              <a:ext cx="25560" cy="42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79480" y="5025960"/>
              <a:ext cx="1116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890640" y="4543560"/>
              <a:ext cx="2376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4400" y="4543560"/>
              <a:ext cx="1116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925560" y="5113080"/>
              <a:ext cx="252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950760" y="4752720"/>
              <a:ext cx="1116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61920" y="4753080"/>
              <a:ext cx="1116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73080" y="5075280"/>
              <a:ext cx="255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8640" y="512460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1011240" y="4853160"/>
              <a:ext cx="2232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33560" y="4853160"/>
              <a:ext cx="14040" cy="23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47600" y="4889160"/>
              <a:ext cx="1116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058760" y="4790880"/>
              <a:ext cx="2376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82520" y="4791240"/>
              <a:ext cx="1116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93680" y="4976640"/>
              <a:ext cx="25560" cy="3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119240" y="5137200"/>
              <a:ext cx="111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400" y="513720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143000" y="5037120"/>
              <a:ext cx="237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66760" y="5037120"/>
              <a:ext cx="1260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79360" y="5361120"/>
              <a:ext cx="22320" cy="32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201680" y="5533920"/>
              <a:ext cx="1440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16080" y="5533920"/>
              <a:ext cx="1116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227240" y="5484600"/>
              <a:ext cx="2376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51000" y="5484960"/>
              <a:ext cx="1116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62160" y="5495760"/>
              <a:ext cx="2520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87360" y="5607000"/>
              <a:ext cx="11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298520" y="5581440"/>
              <a:ext cx="23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322280" y="5470200"/>
              <a:ext cx="1296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35240" y="5470560"/>
              <a:ext cx="126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47840" y="5545080"/>
              <a:ext cx="237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371600" y="5459400"/>
              <a:ext cx="126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384200" y="5297400"/>
              <a:ext cx="2376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07960" y="5297400"/>
              <a:ext cx="111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419120" y="5285880"/>
              <a:ext cx="111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30280" y="5286240"/>
              <a:ext cx="25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455840" y="5187600"/>
              <a:ext cx="1116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67000" y="5187960"/>
              <a:ext cx="2376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90760" y="5297400"/>
              <a:ext cx="1404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04800" y="5632560"/>
              <a:ext cx="111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515960" y="5645160"/>
              <a:ext cx="237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39720" y="5645160"/>
              <a:ext cx="111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1550880" y="5632200"/>
              <a:ext cx="255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576440" y="5559120"/>
              <a:ext cx="1116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587600" y="5484600"/>
              <a:ext cx="111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8760" y="5484960"/>
              <a:ext cx="2520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23960" y="5595840"/>
              <a:ext cx="1260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36560" y="5743440"/>
              <a:ext cx="223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58880" y="5794200"/>
              <a:ext cx="1440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673280" y="5732640"/>
              <a:ext cx="2232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95600" y="5732640"/>
              <a:ext cx="1260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708200" y="576900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719360" y="5668920"/>
              <a:ext cx="2520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44560" y="5668920"/>
              <a:ext cx="11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5720" y="5719680"/>
              <a:ext cx="255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781280" y="5706720"/>
              <a:ext cx="111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792440" y="5632200"/>
              <a:ext cx="126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05040" y="5632560"/>
              <a:ext cx="2232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27360" y="5657760"/>
              <a:ext cx="1404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841400" y="5719680"/>
              <a:ext cx="237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65160" y="5719680"/>
              <a:ext cx="111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76320" y="5805360"/>
              <a:ext cx="111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887480" y="5780160"/>
              <a:ext cx="255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913040" y="5743440"/>
              <a:ext cx="111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4200" y="574344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949400" y="5732640"/>
              <a:ext cx="1116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60560" y="5732640"/>
              <a:ext cx="126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73160" y="5780160"/>
              <a:ext cx="2376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96920" y="5916600"/>
              <a:ext cx="129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009880" y="5880240"/>
              <a:ext cx="237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33640" y="5880240"/>
              <a:ext cx="1116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044800" y="5916240"/>
              <a:ext cx="252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70000" y="5916600"/>
              <a:ext cx="11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081160" y="594216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92320" y="5942160"/>
              <a:ext cx="255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117880" y="5916240"/>
              <a:ext cx="126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30480" y="5916600"/>
              <a:ext cx="2232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152800" y="596700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65400" y="596736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178000" y="5930640"/>
              <a:ext cx="237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01760" y="593100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212920" y="5892840"/>
              <a:ext cx="255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238480" y="5841720"/>
              <a:ext cx="11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49640" y="5842080"/>
              <a:ext cx="126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262240" y="5905080"/>
              <a:ext cx="223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84560" y="5905440"/>
              <a:ext cx="1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298600" y="5867280"/>
              <a:ext cx="223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20920" y="586728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333520" y="5768640"/>
              <a:ext cx="1296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46480" y="5769000"/>
              <a:ext cx="2376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370240" y="5805360"/>
              <a:ext cx="111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381400" y="5768640"/>
              <a:ext cx="252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406600" y="5732280"/>
              <a:ext cx="111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417760" y="5719680"/>
              <a:ext cx="237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441520" y="5533920"/>
              <a:ext cx="1116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452680" y="5408640"/>
              <a:ext cx="144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67080" y="5408640"/>
              <a:ext cx="237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2490840" y="5470560"/>
              <a:ext cx="111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02000" y="5470560"/>
              <a:ext cx="252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527200" y="5408280"/>
              <a:ext cx="1116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538360" y="5310000"/>
              <a:ext cx="1116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49520" y="5310360"/>
              <a:ext cx="255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75080" y="5335560"/>
              <a:ext cx="1080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585880" y="5495760"/>
              <a:ext cx="241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10000" y="5495760"/>
              <a:ext cx="1260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622600" y="5581440"/>
              <a:ext cx="126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35200" y="5581800"/>
              <a:ext cx="237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58960" y="5632560"/>
              <a:ext cx="1116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670120" y="5732640"/>
              <a:ext cx="255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695680" y="5706720"/>
              <a:ext cx="11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706840" y="5694120"/>
              <a:ext cx="237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730600" y="5595840"/>
              <a:ext cx="1260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743200" y="5433840"/>
              <a:ext cx="1260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55800" y="5433840"/>
              <a:ext cx="2232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78120" y="5533920"/>
              <a:ext cx="1260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790720" y="5581800"/>
              <a:ext cx="237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814480" y="5484600"/>
              <a:ext cx="129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27440" y="5484960"/>
              <a:ext cx="1116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838600" y="5408640"/>
              <a:ext cx="252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863800" y="5297040"/>
              <a:ext cx="1116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74960" y="5297400"/>
              <a:ext cx="237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898720" y="5297400"/>
              <a:ext cx="126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11320" y="5297400"/>
              <a:ext cx="129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924280" y="5322600"/>
              <a:ext cx="219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46240" y="532296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959200" y="5286240"/>
              <a:ext cx="252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984400" y="5149440"/>
              <a:ext cx="1116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95560" y="5149800"/>
              <a:ext cx="111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06720" y="5224320"/>
              <a:ext cx="2556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032280" y="5149800"/>
              <a:ext cx="1080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43080" y="5149800"/>
              <a:ext cx="2412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67200" y="5261040"/>
              <a:ext cx="1260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79800" y="5423040"/>
              <a:ext cx="2376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03560" y="5559480"/>
              <a:ext cx="126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16160" y="5621400"/>
              <a:ext cx="111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127320" y="5694120"/>
              <a:ext cx="255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152880" y="5544720"/>
              <a:ext cx="1116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64040" y="5545080"/>
              <a:ext cx="23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87800" y="5570640"/>
              <a:ext cx="126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200400" y="5570280"/>
              <a:ext cx="11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11560" y="5570640"/>
              <a:ext cx="237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235320" y="5581800"/>
              <a:ext cx="144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49720" y="5581800"/>
              <a:ext cx="2196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71680" y="5621400"/>
              <a:ext cx="1296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284640" y="5668560"/>
              <a:ext cx="1116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95800" y="5668920"/>
              <a:ext cx="252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3321000" y="5668560"/>
              <a:ext cx="11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332160" y="5408280"/>
              <a:ext cx="23760" cy="2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5920" y="5408640"/>
              <a:ext cx="126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68520" y="5433840"/>
              <a:ext cx="129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81480" y="5470560"/>
              <a:ext cx="219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3403440" y="5397120"/>
              <a:ext cx="144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17840" y="5397480"/>
              <a:ext cx="2232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440160" y="5335200"/>
              <a:ext cx="1260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452760" y="5211720"/>
              <a:ext cx="2556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78320" y="5211720"/>
              <a:ext cx="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89480" y="5211720"/>
              <a:ext cx="1080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00280" y="5408640"/>
              <a:ext cx="241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24400" y="5521320"/>
              <a:ext cx="126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537000" y="5322960"/>
              <a:ext cx="2376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60760" y="5322960"/>
              <a:ext cx="11160" cy="33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920" y="5657760"/>
              <a:ext cx="144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586320" y="5632560"/>
              <a:ext cx="2376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10080" y="5632560"/>
              <a:ext cx="1116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21240" y="5681520"/>
              <a:ext cx="252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46440" y="5719680"/>
              <a:ext cx="111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57600" y="5794200"/>
              <a:ext cx="1116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68760" y="581832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3692520" y="5719680"/>
              <a:ext cx="1260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05120" y="5719680"/>
              <a:ext cx="2376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3728880" y="5817960"/>
              <a:ext cx="1296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41840" y="5818320"/>
              <a:ext cx="126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754440" y="5879880"/>
              <a:ext cx="237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778200" y="5855760"/>
              <a:ext cx="1116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3789360" y="5805000"/>
              <a:ext cx="255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14920" y="5805360"/>
              <a:ext cx="108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825720" y="5768640"/>
              <a:ext cx="2412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9840" y="5769000"/>
              <a:ext cx="108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860640" y="5732280"/>
              <a:ext cx="1440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75040" y="5732640"/>
              <a:ext cx="2232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97360" y="5769000"/>
              <a:ext cx="1260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09960" y="5867280"/>
              <a:ext cx="237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933720" y="5867280"/>
              <a:ext cx="129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46680" y="5867280"/>
              <a:ext cx="10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957480" y="5855760"/>
              <a:ext cx="255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83040" y="5856120"/>
              <a:ext cx="111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94200" y="590544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4017960" y="5842080"/>
              <a:ext cx="111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29120" y="5842080"/>
              <a:ext cx="14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043520" y="5719680"/>
              <a:ext cx="2196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65480" y="5719680"/>
              <a:ext cx="12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078440" y="5657760"/>
              <a:ext cx="252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103640" y="5595840"/>
              <a:ext cx="111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14800" y="5595840"/>
              <a:ext cx="111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25960" y="5681520"/>
              <a:ext cx="2520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7160" y="6029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7160" y="568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7160" y="533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7160" y="49896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7160" y="46292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7160" y="4282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7160" y="39369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7160" y="3591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1800" y="6227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26760" y="6227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45760" y="6227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87080" y="6227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42800" y="6227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77280" y="6486480"/>
              <a:ext cx="66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me, D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87120" y="4824000"/>
              <a:ext cx="30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3429000"/>
            <a:ext cx="4572000" cy="3429000"/>
            <a:chOff x="0" y="3429000"/>
            <a:chExt cx="4572000" cy="3429000"/>
          </a:xfrm>
        </p:grpSpPr>
        <p:sp>
          <p:nvSpPr>
            <p:cNvPr id="343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6200" y="3676680"/>
              <a:ext cx="3805200" cy="243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71640" y="5843520"/>
              <a:ext cx="155520" cy="2714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35160" y="5732640"/>
              <a:ext cx="168120" cy="382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11280" y="5408640"/>
              <a:ext cx="168120" cy="706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87400" y="3948120"/>
              <a:ext cx="155880" cy="21668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50920" y="4221000"/>
              <a:ext cx="168480" cy="1893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27400" y="4494240"/>
              <a:ext cx="168120" cy="1620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03520" y="4383000"/>
              <a:ext cx="157320" cy="1731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68480" y="4975200"/>
              <a:ext cx="168480" cy="1139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44960" y="5570640"/>
              <a:ext cx="153720" cy="544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06680" y="5843520"/>
              <a:ext cx="168480" cy="2714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83160" y="6066000"/>
              <a:ext cx="168120" cy="48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59280" y="6066000"/>
              <a:ext cx="156960" cy="48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280" y="61149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1280" y="584352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1280" y="55706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1280" y="52974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1280" y="50259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1280" y="47656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1280" y="44942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1280" y="42210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1280" y="39481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1280" y="36766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4620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92232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1187280" y="6114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46376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173988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004840" y="6114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79520" y="6114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255600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281952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09564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360600" y="6114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635280" y="6114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91176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17528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45140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0600" y="60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0600" y="5756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7520" y="5484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7520" y="5211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7520" y="493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7520" y="4680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7520" y="440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7520" y="4135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7520" y="3862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7520" y="3589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1040" y="62262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47520" y="62262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23640" y="62262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87160" y="62262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63280" y="62262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11040" y="6226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26680" y="6226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02800" y="6226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67760" y="6226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44240" y="6226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20360" y="6226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82440" y="6226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58560" y="6226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34680" y="6226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28120" y="648648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6200000">
              <a:off x="-77040" y="4845240"/>
              <a:ext cx="64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0" y="3429000"/>
            <a:ext cx="4572000" cy="3429000"/>
            <a:chOff x="0" y="3429000"/>
            <a:chExt cx="4572000" cy="3429000"/>
          </a:xfrm>
        </p:grpSpPr>
        <p:sp>
          <p:nvSpPr>
            <p:cNvPr id="409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5640" y="3675240"/>
              <a:ext cx="3565440" cy="24429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20720" y="61182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0720" y="577368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0720" y="54151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0720" y="5068800"/>
              <a:ext cx="34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0720" y="472428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0720" y="43783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0720" y="40194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0720" y="3675240"/>
              <a:ext cx="349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55640" y="61178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606680" y="6117840"/>
              <a:ext cx="28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448000" y="61178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298680" y="611784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4152960" y="61178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755640" y="4044960"/>
              <a:ext cx="12600" cy="3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8240" y="4044960"/>
              <a:ext cx="2376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792000" y="4206600"/>
              <a:ext cx="11160" cy="2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03160" y="4206960"/>
              <a:ext cx="2556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828720" y="4243320"/>
              <a:ext cx="111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39880" y="4243320"/>
              <a:ext cx="1116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1040" y="4797360"/>
              <a:ext cx="2520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876240" y="5020920"/>
              <a:ext cx="111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887400" y="4538160"/>
              <a:ext cx="2376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11160" y="4538520"/>
              <a:ext cx="11160" cy="6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922320" y="5106960"/>
              <a:ext cx="255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947880" y="4760640"/>
              <a:ext cx="10800" cy="34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58680" y="4761000"/>
              <a:ext cx="12960" cy="30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71640" y="5068800"/>
              <a:ext cx="2520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996840" y="5118120"/>
              <a:ext cx="111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1008000" y="4858920"/>
              <a:ext cx="2376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31760" y="4859280"/>
              <a:ext cx="1116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042920" y="4884840"/>
              <a:ext cx="1260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1055520" y="4786200"/>
              <a:ext cx="2412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9640" y="4786200"/>
              <a:ext cx="1080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90440" y="4981680"/>
              <a:ext cx="2556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1116000" y="5143680"/>
              <a:ext cx="1116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27160" y="514368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1150920" y="5045040"/>
              <a:ext cx="1260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63520" y="5045040"/>
              <a:ext cx="1296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76480" y="5353200"/>
              <a:ext cx="21960" cy="3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1198440" y="5526000"/>
              <a:ext cx="1296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11400" y="552600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1235160" y="5489280"/>
              <a:ext cx="1260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47760" y="548964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58920" y="5500800"/>
              <a:ext cx="2520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84120" y="5611680"/>
              <a:ext cx="11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1295280" y="5587560"/>
              <a:ext cx="237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1319040" y="5464080"/>
              <a:ext cx="1296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32000" y="546408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55760" y="5549760"/>
              <a:ext cx="111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366920" y="5452560"/>
              <a:ext cx="1260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379520" y="5305320"/>
              <a:ext cx="2376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03280" y="5305320"/>
              <a:ext cx="1260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415880" y="5280120"/>
              <a:ext cx="223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438200" y="5280120"/>
              <a:ext cx="1440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452600" y="5192280"/>
              <a:ext cx="1116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63760" y="5192640"/>
              <a:ext cx="237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87520" y="5305320"/>
              <a:ext cx="1260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00120" y="5637240"/>
              <a:ext cx="237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1523880" y="564840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35040" y="564840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1546200" y="5626080"/>
              <a:ext cx="2556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1571760" y="5562720"/>
              <a:ext cx="126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1584360" y="5489280"/>
              <a:ext cx="2232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06680" y="5489640"/>
              <a:ext cx="140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20720" y="5587920"/>
              <a:ext cx="223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43040" y="5748480"/>
              <a:ext cx="126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55640" y="5796000"/>
              <a:ext cx="129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668600" y="5735160"/>
              <a:ext cx="2376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92360" y="5735520"/>
              <a:ext cx="1116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1703520" y="5773680"/>
              <a:ext cx="2520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1728720" y="5673600"/>
              <a:ext cx="111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739880" y="5673600"/>
              <a:ext cx="111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51040" y="5711760"/>
              <a:ext cx="2376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1774800" y="5698800"/>
              <a:ext cx="1260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1787400" y="5637240"/>
              <a:ext cx="237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11160" y="563724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22320" y="5662440"/>
              <a:ext cx="2556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1847880" y="5722560"/>
              <a:ext cx="126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60480" y="5722920"/>
              <a:ext cx="1116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71640" y="5810400"/>
              <a:ext cx="255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1897200" y="5784840"/>
              <a:ext cx="108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908000" y="5748120"/>
              <a:ext cx="2412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32120" y="574848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1943280" y="5722560"/>
              <a:ext cx="126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55880" y="5722920"/>
              <a:ext cx="237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79640" y="5784840"/>
              <a:ext cx="1116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90800" y="5921280"/>
              <a:ext cx="252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2016000" y="5882760"/>
              <a:ext cx="1116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27160" y="5883120"/>
              <a:ext cx="1260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2039760" y="5908320"/>
              <a:ext cx="2412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63880" y="5908680"/>
              <a:ext cx="126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2076480" y="5946840"/>
              <a:ext cx="223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98800" y="5946840"/>
              <a:ext cx="1260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111400" y="5920920"/>
              <a:ext cx="2376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35160" y="5921280"/>
              <a:ext cx="126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147760" y="5968800"/>
              <a:ext cx="111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158920" y="596916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2184480" y="5932440"/>
              <a:ext cx="111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95640" y="593244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219400" y="5895720"/>
              <a:ext cx="126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2232000" y="5846400"/>
              <a:ext cx="126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44600" y="5846760"/>
              <a:ext cx="2232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2266920" y="5908320"/>
              <a:ext cx="126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79520" y="5908680"/>
              <a:ext cx="2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2303640" y="5870520"/>
              <a:ext cx="126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16240" y="587052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2338560" y="5773320"/>
              <a:ext cx="140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52600" y="5773680"/>
              <a:ext cx="1116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2363760" y="5810040"/>
              <a:ext cx="237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2387520" y="5773680"/>
              <a:ext cx="129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400480" y="5722560"/>
              <a:ext cx="237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24240" y="572292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2435400" y="5538600"/>
              <a:ext cx="1260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2448000" y="5402160"/>
              <a:ext cx="237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71760" y="5402160"/>
              <a:ext cx="1260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2484360" y="5474880"/>
              <a:ext cx="223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06680" y="5475240"/>
              <a:ext cx="1440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2521080" y="5402160"/>
              <a:ext cx="219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2543040" y="5304960"/>
              <a:ext cx="129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56000" y="5305320"/>
              <a:ext cx="111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67160" y="5342040"/>
              <a:ext cx="2520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2592360" y="5489280"/>
              <a:ext cx="111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03520" y="5489640"/>
              <a:ext cx="2556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2629080" y="5587560"/>
              <a:ext cx="10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39880" y="5587920"/>
              <a:ext cx="111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51040" y="5637240"/>
              <a:ext cx="2376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2674800" y="5722560"/>
              <a:ext cx="129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2687760" y="5711400"/>
              <a:ext cx="23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2711520" y="568656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2722680" y="5600880"/>
              <a:ext cx="126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735280" y="5438880"/>
              <a:ext cx="2556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60840" y="5438880"/>
              <a:ext cx="1080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771640" y="5538960"/>
              <a:ext cx="2556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2797200" y="5587920"/>
              <a:ext cx="1116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2808360" y="5489280"/>
              <a:ext cx="2376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32120" y="5489640"/>
              <a:ext cx="111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2843280" y="5415120"/>
              <a:ext cx="1260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855880" y="5304960"/>
              <a:ext cx="2376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879640" y="5305320"/>
              <a:ext cx="111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890800" y="5290920"/>
              <a:ext cx="255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16360" y="5291280"/>
              <a:ext cx="11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2927520" y="5327640"/>
              <a:ext cx="126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40120" y="532764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962440" y="5280120"/>
              <a:ext cx="1404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976480" y="5143320"/>
              <a:ext cx="223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998800" y="5143680"/>
              <a:ext cx="126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11400" y="5229360"/>
              <a:ext cx="2556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3036960" y="5143320"/>
              <a:ext cx="111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8120" y="5143680"/>
              <a:ext cx="1116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59280" y="5265720"/>
              <a:ext cx="2520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84480" y="5427720"/>
              <a:ext cx="1116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95640" y="5549760"/>
              <a:ext cx="237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19400" y="5626080"/>
              <a:ext cx="111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3130560" y="5698800"/>
              <a:ext cx="144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144960" y="5549400"/>
              <a:ext cx="2196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166920" y="5549760"/>
              <a:ext cx="129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179880" y="5575320"/>
              <a:ext cx="237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203640" y="5562720"/>
              <a:ext cx="126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16240" y="5562720"/>
              <a:ext cx="111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227400" y="5587560"/>
              <a:ext cx="255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52960" y="5587920"/>
              <a:ext cx="10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263760" y="5626080"/>
              <a:ext cx="2412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287880" y="5673240"/>
              <a:ext cx="1080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298680" y="5673600"/>
              <a:ext cx="255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3324240" y="5673240"/>
              <a:ext cx="111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335400" y="5402160"/>
              <a:ext cx="1260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48000" y="5402160"/>
              <a:ext cx="237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371760" y="5438880"/>
              <a:ext cx="129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84720" y="5475240"/>
              <a:ext cx="219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3406680" y="5401800"/>
              <a:ext cx="144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21080" y="5402160"/>
              <a:ext cx="1116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3432240" y="5342040"/>
              <a:ext cx="2376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456000" y="5205240"/>
              <a:ext cx="111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67160" y="5205240"/>
              <a:ext cx="252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92360" y="5218200"/>
              <a:ext cx="1116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03520" y="5415120"/>
              <a:ext cx="25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29080" y="5526000"/>
              <a:ext cx="1116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540240" y="5316480"/>
              <a:ext cx="11160" cy="28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551400" y="5316480"/>
              <a:ext cx="2376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75160" y="5648400"/>
              <a:ext cx="126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3587760" y="5636880"/>
              <a:ext cx="237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11520" y="5637240"/>
              <a:ext cx="126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24120" y="5686560"/>
              <a:ext cx="111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35280" y="5722920"/>
              <a:ext cx="2556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660840" y="579600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72000" y="582120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3695760" y="5722560"/>
              <a:ext cx="1260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708360" y="5722920"/>
              <a:ext cx="2376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732120" y="5821200"/>
              <a:ext cx="111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743280" y="5821200"/>
              <a:ext cx="1260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3755880" y="5883120"/>
              <a:ext cx="2412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3780000" y="5859360"/>
              <a:ext cx="10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3790800" y="5810400"/>
              <a:ext cx="2556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16360" y="5810400"/>
              <a:ext cx="1116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3827520" y="5773680"/>
              <a:ext cx="126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40120" y="5773680"/>
              <a:ext cx="2232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3862440" y="5735520"/>
              <a:ext cx="1440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76840" y="5735520"/>
              <a:ext cx="219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98800" y="5773680"/>
              <a:ext cx="129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11760" y="5870520"/>
              <a:ext cx="126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3924360" y="5870160"/>
              <a:ext cx="237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48120" y="5870520"/>
              <a:ext cx="111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3959280" y="5859000"/>
              <a:ext cx="252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84480" y="5859360"/>
              <a:ext cx="111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95640" y="590868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019400" y="5846760"/>
              <a:ext cx="111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030560" y="584676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4044960" y="5711400"/>
              <a:ext cx="2232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67280" y="571176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4079880" y="5662440"/>
              <a:ext cx="2376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4103640" y="5600520"/>
              <a:ext cx="1260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16240" y="5600880"/>
              <a:ext cx="1116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27400" y="5673600"/>
              <a:ext cx="255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55640" y="4378320"/>
              <a:ext cx="126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8240" y="43909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792000" y="436572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03160" y="4365720"/>
              <a:ext cx="255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828720" y="4365360"/>
              <a:ext cx="11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839880" y="435420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51040" y="43545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76240" y="435456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887400" y="4354200"/>
              <a:ext cx="23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11160" y="435456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22320" y="4365720"/>
              <a:ext cx="255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947880" y="4390920"/>
              <a:ext cx="10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58680" y="441648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71640" y="4416480"/>
              <a:ext cx="252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996840" y="441612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008000" y="4416480"/>
              <a:ext cx="237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1031760" y="4427280"/>
              <a:ext cx="11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42920" y="4427640"/>
              <a:ext cx="126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1055520" y="4416480"/>
              <a:ext cx="2412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1079640" y="4365360"/>
              <a:ext cx="10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1090440" y="4354200"/>
              <a:ext cx="255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116000" y="435456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127160" y="4354560"/>
              <a:ext cx="23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50920" y="436572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1163520" y="4354200"/>
              <a:ext cx="129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1176480" y="4328640"/>
              <a:ext cx="219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198440" y="4292280"/>
              <a:ext cx="129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211400" y="4292640"/>
              <a:ext cx="237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1235160" y="431748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247760" y="431784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258920" y="4329000"/>
              <a:ext cx="252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1284120" y="4303440"/>
              <a:ext cx="111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95280" y="430380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1319040" y="4292280"/>
              <a:ext cx="129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32000" y="4292640"/>
              <a:ext cx="23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1355760" y="429228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366920" y="4279680"/>
              <a:ext cx="126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1379520" y="4267080"/>
              <a:ext cx="237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03280" y="4267080"/>
              <a:ext cx="126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15880" y="4280040"/>
              <a:ext cx="223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38200" y="4292640"/>
              <a:ext cx="144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1452600" y="4280040"/>
              <a:ext cx="1116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463760" y="4280040"/>
              <a:ext cx="237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87520" y="429264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500120" y="4303800"/>
              <a:ext cx="23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523880" y="431784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35040" y="432900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46200" y="4340160"/>
              <a:ext cx="255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1571760" y="4339800"/>
              <a:ext cx="126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1584360" y="4317840"/>
              <a:ext cx="223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606680" y="4317840"/>
              <a:ext cx="140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620720" y="4354560"/>
              <a:ext cx="223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1643040" y="4339800"/>
              <a:ext cx="126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55640" y="4340160"/>
              <a:ext cx="129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1668600" y="4328640"/>
              <a:ext cx="23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92360" y="4329000"/>
              <a:ext cx="111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1703520" y="4354200"/>
              <a:ext cx="252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28720" y="435456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1739880" y="4340160"/>
              <a:ext cx="111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1751040" y="4328640"/>
              <a:ext cx="23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774800" y="431748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87400" y="4317840"/>
              <a:ext cx="23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11160" y="432900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22320" y="434016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7880" y="4340160"/>
              <a:ext cx="126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60480" y="4354560"/>
              <a:ext cx="111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71640" y="439092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97200" y="4390920"/>
              <a:ext cx="1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1908000" y="4377960"/>
              <a:ext cx="241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32120" y="437832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1943280" y="4365360"/>
              <a:ext cx="126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955880" y="4365720"/>
              <a:ext cx="237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979640" y="4365360"/>
              <a:ext cx="11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90800" y="4365720"/>
              <a:ext cx="252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016000" y="4378320"/>
              <a:ext cx="11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27160" y="439092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039760" y="4390920"/>
              <a:ext cx="2412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63880" y="44038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76480" y="440388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098800" y="4390920"/>
              <a:ext cx="126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11400" y="43909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35160" y="4390920"/>
              <a:ext cx="126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147760" y="440388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58920" y="4403880"/>
              <a:ext cx="255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84480" y="4416480"/>
              <a:ext cx="111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2195640" y="4427280"/>
              <a:ext cx="237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2219400" y="441612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2232000" y="4403520"/>
              <a:ext cx="126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44600" y="4403880"/>
              <a:ext cx="223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66920" y="441648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79520" y="4427640"/>
              <a:ext cx="2412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03640" y="4452840"/>
              <a:ext cx="126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16240" y="4491000"/>
              <a:ext cx="223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338560" y="4513320"/>
              <a:ext cx="1404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52600" y="452772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363760" y="4501800"/>
              <a:ext cx="23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87520" y="4502160"/>
              <a:ext cx="129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00480" y="451332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424240" y="450180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5400" y="450216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2448000" y="4476240"/>
              <a:ext cx="23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471760" y="4465800"/>
              <a:ext cx="1260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84360" y="446580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506680" y="4465800"/>
              <a:ext cx="144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2521080" y="4476600"/>
              <a:ext cx="219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2543040" y="4465800"/>
              <a:ext cx="1296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556000" y="446580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2567160" y="4439880"/>
              <a:ext cx="252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92360" y="4440240"/>
              <a:ext cx="11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603520" y="446580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29080" y="4465800"/>
              <a:ext cx="10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39880" y="446580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51040" y="446580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674800" y="4439880"/>
              <a:ext cx="129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87760" y="4440240"/>
              <a:ext cx="237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2711520" y="4439880"/>
              <a:ext cx="11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22680" y="444024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2735280" y="4427280"/>
              <a:ext cx="255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2760840" y="4416120"/>
              <a:ext cx="108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71640" y="4416480"/>
              <a:ext cx="255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797200" y="444024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2808360" y="4427280"/>
              <a:ext cx="237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32120" y="442764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843280" y="4403880"/>
              <a:ext cx="126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2855880" y="4390920"/>
              <a:ext cx="237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879640" y="4377960"/>
              <a:ext cx="11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2890800" y="4354560"/>
              <a:ext cx="255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916360" y="435456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27520" y="435456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940120" y="436572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62440" y="436572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976480" y="436572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2998800" y="435420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011400" y="4354560"/>
              <a:ext cx="255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036960" y="4365720"/>
              <a:ext cx="11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8120" y="437832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059280" y="4340160"/>
              <a:ext cx="252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084480" y="4340160"/>
              <a:ext cx="111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3095640" y="4317840"/>
              <a:ext cx="237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19400" y="4317840"/>
              <a:ext cx="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30560" y="431784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44960" y="4317840"/>
              <a:ext cx="219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66920" y="4329000"/>
              <a:ext cx="129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3179880" y="4340160"/>
              <a:ext cx="237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3203640" y="4317840"/>
              <a:ext cx="1260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16240" y="4317840"/>
              <a:ext cx="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3227400" y="4292640"/>
              <a:ext cx="255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52960" y="4292640"/>
              <a:ext cx="108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263760" y="4303800"/>
              <a:ext cx="2412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87880" y="4317840"/>
              <a:ext cx="108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298680" y="4329000"/>
              <a:ext cx="255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3324240" y="4328640"/>
              <a:ext cx="11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335400" y="4329000"/>
              <a:ext cx="126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348000" y="436572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3371760" y="4339800"/>
              <a:ext cx="129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3384720" y="4328640"/>
              <a:ext cx="219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06680" y="432900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3421080" y="431748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3432240" y="4303440"/>
              <a:ext cx="23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3456000" y="4280040"/>
              <a:ext cx="111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67160" y="4280040"/>
              <a:ext cx="252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492360" y="430380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03520" y="4303800"/>
              <a:ext cx="255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529080" y="432900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540240" y="4340160"/>
              <a:ext cx="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3551400" y="4328640"/>
              <a:ext cx="23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3575160" y="431748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587760" y="4292640"/>
              <a:ext cx="237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3611520" y="4279680"/>
              <a:ext cx="126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3624120" y="4267080"/>
              <a:ext cx="11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35280" y="4267080"/>
              <a:ext cx="255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660840" y="430380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672000" y="4317480"/>
              <a:ext cx="23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695760" y="43178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708360" y="4317840"/>
              <a:ext cx="23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3732120" y="431748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743280" y="43178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755880" y="4317840"/>
              <a:ext cx="241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3780000" y="4292280"/>
              <a:ext cx="10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90800" y="42926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816360" y="4292640"/>
              <a:ext cx="111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3827520" y="4303800"/>
              <a:ext cx="126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40120" y="4292280"/>
              <a:ext cx="223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862440" y="429264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876840" y="4292640"/>
              <a:ext cx="219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98800" y="430380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911760" y="429228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3924360" y="4266720"/>
              <a:ext cx="23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948120" y="4267080"/>
              <a:ext cx="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959280" y="426708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84480" y="4267080"/>
              <a:ext cx="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95640" y="426708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019400" y="4267080"/>
              <a:ext cx="11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030560" y="4280040"/>
              <a:ext cx="144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4044960" y="4280040"/>
              <a:ext cx="2232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4067280" y="4267080"/>
              <a:ext cx="126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079880" y="4267080"/>
              <a:ext cx="23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03640" y="429264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116240" y="430380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127400" y="432900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07160" y="6032520"/>
              <a:ext cx="24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07160" y="5686560"/>
              <a:ext cx="24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07160" y="5327640"/>
              <a:ext cx="24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07160" y="4981680"/>
              <a:ext cx="24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07160" y="4638600"/>
              <a:ext cx="24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7160" y="4292640"/>
              <a:ext cx="24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07160" y="3933720"/>
              <a:ext cx="24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07160" y="3587760"/>
              <a:ext cx="24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0720" y="622944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534680" y="6229440"/>
              <a:ext cx="140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337840" y="6229440"/>
              <a:ext cx="210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191760" y="6229440"/>
              <a:ext cx="210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044240" y="6229440"/>
              <a:ext cx="210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71160" y="6488280"/>
              <a:ext cx="6681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me, D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16200000">
              <a:off x="85320" y="4831920"/>
              <a:ext cx="3085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965320" y="4716360"/>
              <a:ext cx="62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set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965320" y="3867120"/>
              <a:ext cx="62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set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"/>
          <p:cNvGrpSpPr/>
          <p:nvPr/>
        </p:nvGrpSpPr>
        <p:grpSpPr>
          <a:xfrm>
            <a:off x="0" y="3429000"/>
            <a:ext cx="4572000" cy="3429000"/>
            <a:chOff x="0" y="3429000"/>
            <a:chExt cx="4572000" cy="3429000"/>
          </a:xfrm>
        </p:grpSpPr>
        <p:sp>
          <p:nvSpPr>
            <p:cNvPr id="842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17480" y="3675240"/>
              <a:ext cx="3735360" cy="24429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93760" y="4119480"/>
              <a:ext cx="168480" cy="1998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370240" y="4044960"/>
              <a:ext cx="155520" cy="20732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81120" y="6118200"/>
              <a:ext cx="363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81120" y="571176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1120" y="53038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81120" y="489744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81120" y="44895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81120" y="40813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81120" y="367524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71748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98100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125568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151920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1784520" y="61182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204624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2320920" y="61182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258588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2847960" y="61182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3122640" y="61182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338760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365112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3913200" y="61182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418932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445284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1160" y="603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77360" y="5624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77360" y="5216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77360" y="4811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77360" y="440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05720" y="3995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05720" y="3589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0880" y="622944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04400" y="622944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80880" y="622944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542600" y="622944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806120" y="622944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154240" y="622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69520" y="622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33040" y="622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894760" y="622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71240" y="622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34760" y="622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98280" y="622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973680" y="622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36480" y="622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70240" y="648828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6200000">
              <a:off x="-80280" y="4849920"/>
              <a:ext cx="64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0" y="3429000"/>
            <a:ext cx="4572000" cy="3429000"/>
            <a:chOff x="0" y="3429000"/>
            <a:chExt cx="4572000" cy="3429000"/>
          </a:xfrm>
        </p:grpSpPr>
        <p:sp>
          <p:nvSpPr>
            <p:cNvPr id="893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33320" y="3676680"/>
              <a:ext cx="3548160" cy="243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6960" y="611496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6960" y="56325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6960" y="513720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6960" y="465444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6960" y="41608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6960" y="36766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33320" y="611496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1325520" y="611496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1919160" y="611496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2511360" y="611496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3094200" y="6114960"/>
              <a:ext cx="288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3687840" y="611496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4281480" y="611496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244520" y="5653080"/>
              <a:ext cx="122400" cy="1238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35" y="0"/>
                  </a:moveTo>
                  <a:lnTo>
                    <a:pt x="71" y="37"/>
                  </a:lnTo>
                  <a:lnTo>
                    <a:pt x="35" y="73"/>
                  </a:lnTo>
                  <a:lnTo>
                    <a:pt x="0" y="3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652920" y="4073400"/>
              <a:ext cx="122040" cy="12240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36" y="0"/>
                  </a:moveTo>
                  <a:lnTo>
                    <a:pt x="71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0240" y="6027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94560" y="5545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4400" y="50497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4560" y="45687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64400" y="4073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4560" y="3589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96960" y="6226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173960" y="6226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767600" y="6226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61600" y="6226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942640" y="6226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71200" y="6226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128480" y="6226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652760" y="6485040"/>
              <a:ext cx="161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ndard Deviation or Ri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6200000">
              <a:off x="-232560" y="4713120"/>
              <a:ext cx="94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verage 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762280" y="4049640"/>
              <a:ext cx="62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set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484280" y="5413320"/>
              <a:ext cx="62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set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"/>
          <p:cNvGrpSpPr/>
          <p:nvPr/>
        </p:nvGrpSpPr>
        <p:grpSpPr>
          <a:xfrm>
            <a:off x="52560" y="3481560"/>
            <a:ext cx="4456080" cy="3305160"/>
            <a:chOff x="52560" y="3481560"/>
            <a:chExt cx="4456080" cy="3305160"/>
          </a:xfrm>
        </p:grpSpPr>
        <p:sp>
          <p:nvSpPr>
            <p:cNvPr id="929" name=""/>
            <p:cNvSpPr/>
            <p:nvPr/>
          </p:nvSpPr>
          <p:spPr>
            <a:xfrm>
              <a:off x="52560" y="3481560"/>
              <a:ext cx="4456080" cy="330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11360" y="3705120"/>
              <a:ext cx="3543120" cy="24400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68160" y="6145200"/>
              <a:ext cx="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8160" y="5900760"/>
              <a:ext cx="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68160" y="5656320"/>
              <a:ext cx="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8160" y="5411880"/>
              <a:ext cx="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68160" y="5168880"/>
              <a:ext cx="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8160" y="4924440"/>
              <a:ext cx="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68160" y="4680000"/>
              <a:ext cx="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8160" y="4437000"/>
              <a:ext cx="43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8160" y="4192560"/>
              <a:ext cx="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8160" y="3948120"/>
              <a:ext cx="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8160" y="3705120"/>
              <a:ext cx="43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11360" y="61448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1305000" y="61448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1887480" y="614484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482920" y="61448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3076560" y="61448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3659040" y="614484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4254480" y="61448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238480" y="474516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065400" y="4765680"/>
              <a:ext cx="716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206800" y="3979800"/>
              <a:ext cx="7128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941480" y="4892760"/>
              <a:ext cx="716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114560" y="5572080"/>
              <a:ext cx="7128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294560" y="554976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io Ti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120760" y="4871880"/>
              <a:ext cx="16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18840" y="4722840"/>
              <a:ext cx="4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oog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87520" y="395928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im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245400" y="4745160"/>
              <a:ext cx="54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od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n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13640" y="6059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3640" y="5815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13640" y="55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3640" y="5327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13640" y="508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13640" y="4840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13640" y="45957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13640" y="4351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13640" y="4108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13640" y="3863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13640" y="361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5240" y="6261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208880" y="6261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791720" y="6261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85360" y="6261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48760" y="62611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531600" y="62611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125240" y="62611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90320" y="646272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sk 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16200000">
              <a:off x="-20880" y="4861080"/>
              <a:ext cx="55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 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"/>
          <p:cNvGrpSpPr/>
          <p:nvPr/>
        </p:nvGrpSpPr>
        <p:grpSpPr>
          <a:xfrm>
            <a:off x="0" y="3429000"/>
            <a:ext cx="4572000" cy="3429000"/>
            <a:chOff x="0" y="3429000"/>
            <a:chExt cx="4572000" cy="3429000"/>
          </a:xfrm>
        </p:grpSpPr>
        <p:sp>
          <p:nvSpPr>
            <p:cNvPr id="980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23760" y="3654360"/>
              <a:ext cx="3311640" cy="2505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90640" y="615960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90640" y="588168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90640" y="560376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90640" y="532296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90640" y="504684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90640" y="476712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90640" y="449100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90640" y="421020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90640" y="393228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90640" y="365436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923760" y="615924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1589040" y="6159240"/>
              <a:ext cx="32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2246400" y="61592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2913120" y="61592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3568680" y="61592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4235400" y="615924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23760" y="5603760"/>
              <a:ext cx="665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589040" y="5603760"/>
              <a:ext cx="657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246400" y="5603760"/>
              <a:ext cx="66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13120" y="5603760"/>
              <a:ext cx="65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923760" y="5881680"/>
              <a:ext cx="66528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1589040" y="5603760"/>
              <a:ext cx="65736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2246400" y="5322960"/>
              <a:ext cx="66672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2913120" y="5046480"/>
              <a:ext cx="65556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923760" y="5322960"/>
              <a:ext cx="66528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1589040" y="5046480"/>
              <a:ext cx="65736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2246400" y="4766760"/>
              <a:ext cx="666720" cy="27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2913120" y="4490640"/>
              <a:ext cx="65556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923760" y="5603760"/>
              <a:ext cx="66528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1589040" y="5046480"/>
              <a:ext cx="657360" cy="55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2246400" y="4491000"/>
              <a:ext cx="66672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2913120" y="3932280"/>
              <a:ext cx="65556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90640" y="5567400"/>
              <a:ext cx="63360" cy="698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0"/>
                  </a:moveTo>
                  <a:lnTo>
                    <a:pt x="39" y="20"/>
                  </a:lnTo>
                  <a:lnTo>
                    <a:pt x="20" y="39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558800" y="5567400"/>
              <a:ext cx="63720" cy="698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20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214720" y="5567400"/>
              <a:ext cx="63360" cy="698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0"/>
                  </a:moveTo>
                  <a:lnTo>
                    <a:pt x="38" y="20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1440" y="5567400"/>
              <a:ext cx="63360" cy="698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20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538440" y="5567400"/>
              <a:ext cx="63720" cy="698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20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90640" y="6124680"/>
              <a:ext cx="63360" cy="69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558800" y="5846760"/>
              <a:ext cx="6372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214720" y="5567400"/>
              <a:ext cx="6336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881440" y="5289480"/>
              <a:ext cx="6336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538440" y="5010120"/>
              <a:ext cx="6372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90640" y="5567400"/>
              <a:ext cx="63360" cy="698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0"/>
                  </a:moveTo>
                  <a:lnTo>
                    <a:pt x="39" y="39"/>
                  </a:lnTo>
                  <a:lnTo>
                    <a:pt x="0" y="3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558800" y="5289480"/>
              <a:ext cx="63720" cy="698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214720" y="5010120"/>
              <a:ext cx="63360" cy="698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0"/>
                  </a:moveTo>
                  <a:lnTo>
                    <a:pt x="38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81440" y="4734000"/>
              <a:ext cx="63360" cy="680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538440" y="4452840"/>
              <a:ext cx="63720" cy="716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90640" y="6124680"/>
              <a:ext cx="6336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58800" y="5567400"/>
              <a:ext cx="6372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214720" y="5010120"/>
              <a:ext cx="6336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81440" y="4452840"/>
              <a:ext cx="6336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38440" y="3897360"/>
              <a:ext cx="6372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45920" y="6076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9360" y="58006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95640" y="55213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95640" y="52434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95640" y="49640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95640" y="46864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95640" y="44067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95640" y="41306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5640" y="38498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95640" y="35719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90280" y="626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419840" y="6264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075400" y="6264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743920" y="6264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97680" y="6264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066200" y="6264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110320" y="6508800"/>
              <a:ext cx="91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umber of </a:t>
              </a:r>
              <a:r>
                <a:rPr b="0" lang="en-ZA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i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16200000">
              <a:off x="-28440" y="4857120"/>
              <a:ext cx="57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mount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677400" y="5540400"/>
              <a:ext cx="325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678480" y="4965840"/>
              <a:ext cx="497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77400" y="4402080"/>
              <a:ext cx="325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678120" y="37987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090440" y="4311720"/>
              <a:ext cx="154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eak-even Po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862280" y="4533840"/>
              <a:ext cx="311040" cy="45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"/>
          <p:cNvGrpSpPr/>
          <p:nvPr/>
        </p:nvGrpSpPr>
        <p:grpSpPr>
          <a:xfrm>
            <a:off x="4626000" y="3483000"/>
            <a:ext cx="4452840" cy="3344760"/>
            <a:chOff x="4626000" y="3483000"/>
            <a:chExt cx="4452840" cy="3344760"/>
          </a:xfrm>
        </p:grpSpPr>
        <p:sp>
          <p:nvSpPr>
            <p:cNvPr id="1059" name=""/>
            <p:cNvSpPr/>
            <p:nvPr/>
          </p:nvSpPr>
          <p:spPr>
            <a:xfrm>
              <a:off x="4626000" y="3483000"/>
              <a:ext cx="4452840" cy="334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99200" y="3711600"/>
              <a:ext cx="3519360" cy="2498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256360" y="621036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256360" y="595944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256360" y="571032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256360" y="546084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256360" y="521028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256360" y="496080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256360" y="471024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256360" y="446076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256360" y="421164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256360" y="396072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256360" y="371160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5299200" y="6210000"/>
              <a:ext cx="1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5886360" y="6210000"/>
              <a:ext cx="1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6472080" y="6210000"/>
              <a:ext cx="1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7059600" y="6210000"/>
              <a:ext cx="1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7645320" y="6210000"/>
              <a:ext cx="1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8231040" y="6210000"/>
              <a:ext cx="1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8818560" y="6210000"/>
              <a:ext cx="1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808680" y="4775040"/>
              <a:ext cx="108000" cy="108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634160" y="4797360"/>
              <a:ext cx="108000" cy="108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777000" y="3994200"/>
              <a:ext cx="108000" cy="108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516720" y="4927680"/>
              <a:ext cx="108000" cy="108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00600" y="5622840"/>
              <a:ext cx="108000" cy="108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75240" y="4797360"/>
              <a:ext cx="108000" cy="10944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34" y="0"/>
                  </a:moveTo>
                  <a:lnTo>
                    <a:pt x="68" y="34"/>
                  </a:lnTo>
                  <a:lnTo>
                    <a:pt x="34" y="69"/>
                  </a:lnTo>
                  <a:lnTo>
                    <a:pt x="0" y="3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62680" y="4406760"/>
              <a:ext cx="10980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35" y="0"/>
                  </a:moveTo>
                  <a:lnTo>
                    <a:pt x="69" y="34"/>
                  </a:lnTo>
                  <a:lnTo>
                    <a:pt x="35" y="68"/>
                  </a:lnTo>
                  <a:lnTo>
                    <a:pt x="0" y="3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48400" y="4395960"/>
              <a:ext cx="108000" cy="10764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34" y="0"/>
                  </a:moveTo>
                  <a:lnTo>
                    <a:pt x="68" y="34"/>
                  </a:lnTo>
                  <a:lnTo>
                    <a:pt x="34" y="68"/>
                  </a:lnTo>
                  <a:lnTo>
                    <a:pt x="0" y="3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87080" y="560088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io Ti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700680" y="4906800"/>
              <a:ext cx="16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994080" y="4754520"/>
              <a:ext cx="4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oog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962760" y="397188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im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817760" y="4775040"/>
              <a:ext cx="54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od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026840" y="437364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+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05920" y="4200480"/>
              <a:ext cx="26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+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353280" y="462456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+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995000" y="6122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995000" y="58737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995000" y="5622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995000" y="53737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995000" y="5122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95000" y="4873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995000" y="4624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995000" y="4373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995000" y="4124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995000" y="3875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95000" y="3624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01640" y="6329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787360" y="6329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374880" y="6329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960600" y="6329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514640" y="6329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00360" y="6329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687520" y="6329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862320" y="653580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sk 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rot="16200000">
              <a:off x="4550760" y="4906080"/>
              <a:ext cx="55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 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10:15:52Z</dcterms:created>
  <dc:creator>Frank</dc:creator>
  <dc:description/>
  <dc:language>en-US</dc:language>
  <cp:lastModifiedBy>frank crundwell</cp:lastModifiedBy>
  <dcterms:modified xsi:type="dcterms:W3CDTF">2007-08-16T16:56:04Z</dcterms:modified>
  <cp:revision>21</cp:revision>
  <dc:subject/>
  <dc:title>PowerPoint Presentation</dc:title>
</cp:coreProperties>
</file>